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60A-7B6F-4DE8-8125-27381A7E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6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5080"/>
            <a:ext cx="9066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54E-F9D9-4176-8634-87B82E74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902-630C-41BE-8952-522DBC85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976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976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508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508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5080"/>
            <a:ext cx="2919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8A3-95E8-443E-A959-9B25DF7A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9760"/>
            <a:ext cx="9066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19D-6E32-439D-AD43-9091915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6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039-40E8-4D5F-8946-DD4351C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D32-7A9B-4FC9-BC56-7945366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90C-3C8D-44ED-8980-63D893ED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62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3E6-A902-454F-812C-5119F92D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B7A-A44C-4BD5-858E-C4F7F5F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50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F3B-F7F0-49DA-A810-25CD056E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976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5080"/>
            <a:ext cx="9066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87C-89E2-43F6-B50B-4C13BACA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9760"/>
            <a:ext cx="9066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77DC0-2EC1-4877-A6AD-E6C556956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3760" y="685800"/>
            <a:ext cx="5408640" cy="414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35000" y="5257800"/>
            <a:ext cx="8109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ac Repress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539640"/>
            <a:ext cx="5715000" cy="426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35000" y="5257800"/>
            <a:ext cx="8109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ac Repress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3240" y="647640"/>
            <a:ext cx="5429160" cy="346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00600" y="4489560"/>
            <a:ext cx="26892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3591" t="14400" r="19200" b="8791"/>
          <a:stretch/>
        </p:blipFill>
        <p:spPr>
          <a:xfrm>
            <a:off x="3162240" y="507960"/>
            <a:ext cx="4114800" cy="4700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52560" y="5405400"/>
            <a:ext cx="47912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NA P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710" r="0" b="4939"/>
          <a:stretch/>
        </p:blipFill>
        <p:spPr>
          <a:xfrm>
            <a:off x="3090960" y="530280"/>
            <a:ext cx="4224240" cy="516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59120" y="5943600"/>
            <a:ext cx="48006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8:10:57Z</dcterms:created>
  <dc:creator>Jung Choi</dc:creator>
  <dc:description/>
  <dc:language>en-US</dc:language>
  <cp:lastModifiedBy/>
  <cp:revision>1</cp:revision>
  <dc:subject/>
  <dc:title/>
</cp:coreProperties>
</file>